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121-33AA-424A-A8BD-A3F889AF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FCB-4F28-409C-AD93-9528954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D12-3B4D-4EF8-A1C8-0543B822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57C-B7FA-4CCA-92FA-2FF2FF87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68F-F47D-41C3-B119-CFC8314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163-096B-4C2A-A42D-9D2890D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12D-4C4F-4622-B6CB-30F3E32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BF8-C871-4EBA-808B-146EBEE3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1B9-6303-41DF-80A8-2F9F03F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4DE-7355-407C-BAFE-7EA5D1B4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A23-94B2-4154-A600-6625E2D9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A05-B3B0-4488-95B1-78D4C21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0F1-2F62-40F5-ACC9-21AB4EAB0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4280"/>
            <a:ext cx="8642160" cy="43200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</a:t>
            </a:r>
            <a:r>
              <a:rPr b="1" lang="ru-RU" sz="1800" spc="-1" strike="noStrike">
                <a:solidFill>
                  <a:srgbClr val="66ccff"/>
                </a:solidFill>
                <a:latin typeface="Comic Sans MS"/>
              </a:rPr>
              <a:t>«Луховский лицей»</a:t>
            </a:r>
            <a:r>
              <a:rPr b="1" lang="ru-RU" sz="20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1480" y="6524640"/>
            <a:ext cx="8642520" cy="260280"/>
          </a:xfrm>
          <a:prstGeom prst="wedgeRectCallout">
            <a:avLst>
              <a:gd name="adj1" fmla="val 26342"/>
              <a:gd name="adj2" fmla="val -23414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ff0000"/>
                </a:solidFill>
                <a:latin typeface="Comic Sans MS"/>
              </a:rPr>
              <a:t>Смена слайдов - вручную нажатием левой кнопки мыши или прокручиванием колесика</a:t>
            </a:r>
            <a:r>
              <a:rPr b="1" lang="en-US" sz="9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7714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Организация логопедической работы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в МОУ «Луховский лиц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176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6440" y="1927080"/>
            <a:ext cx="6650280" cy="43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233-6C1E-48C0-9102-903BE9B9D67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140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 истоков детской душ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индивидуальные занят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5400" y="4076640"/>
            <a:ext cx="2100240" cy="267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83200">
            <a:off x="6659640" y="826920"/>
            <a:ext cx="2114640" cy="267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3440" y="4076640"/>
            <a:ext cx="2122560" cy="267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529080" y="476280"/>
            <a:ext cx="2122560" cy="2673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314440" y="3843360"/>
            <a:ext cx="4516560" cy="2925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0920" y="501480"/>
            <a:ext cx="2762280" cy="316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D75-6622-4781-ADFA-1911218051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760" y="3063960"/>
            <a:ext cx="7194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Использование здоровьесберегающи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упражнения для снятия общего утом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гимнастика для улучшения сл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гимнастика для улучшения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гимнастика для профилактики плоскостоп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пальчиковая гимн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Comic Sans MS"/>
              </a:rPr>
              <a:t>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476280"/>
            <a:ext cx="345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Comic Sans MS"/>
              </a:rPr>
              <a:t>Здоровье – не вс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Comic Sans MS"/>
              </a:rPr>
              <a:t>но все без      здоровья – нич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Comic Sans MS"/>
              </a:rPr>
              <a:t>Сок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199880"/>
            <a:ext cx="8732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ff"/>
                </a:solidFill>
                <a:latin typeface="Comic Sans MS"/>
              </a:rPr>
              <a:t>В целях предупреждения переутомления на логозанятиях проводятся физминутки, игры и упражнения для снятия психо-эмоциональног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ff"/>
                </a:solidFill>
                <a:latin typeface="Comic Sans MS"/>
              </a:rPr>
              <a:t>Проводятся тренировочные упражнения по развитию речевого дыхания, зрительная гимнастика, координационная гимнастика с целью сохранения и укрепления здоровья учащихся. Физминутки и тренировочные упражнения подбираются так, чтобы их содержание было подчинено решению основных задач данного этапа коррекционного обучения и связано с темой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2360" y="5737680"/>
            <a:ext cx="3252960" cy="85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Сквореч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Скворец в скворечнике жи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И песню звонкую пое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68299" t="48199" r="0" b="0"/>
          <a:stretch/>
        </p:blipFill>
        <p:spPr>
          <a:xfrm>
            <a:off x="6238800" y="3193920"/>
            <a:ext cx="2898720" cy="35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F2A-A262-439D-AD42-845FCE6C54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1040" y="1762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емы сказк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2159280"/>
            <a:ext cx="331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Фронтальные логопе-дические занятия про-водятся в атмосфере доброжелательности, с использованием разви-вающих игр, элементов игротерапии, сказочных сюжетов и с удо-вольствием посещаются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197" t="6436" r="67469" b="719"/>
          <a:stretch/>
        </p:blipFill>
        <p:spPr>
          <a:xfrm>
            <a:off x="109440" y="441360"/>
            <a:ext cx="2865600" cy="636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68681" t="6735" r="850" b="651"/>
          <a:stretch/>
        </p:blipFill>
        <p:spPr>
          <a:xfrm>
            <a:off x="6280200" y="461880"/>
            <a:ext cx="2786040" cy="635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F20-1301-481C-A5A9-897FE2EDBF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659520"/>
            <a:ext cx="508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Развитие неречевы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1240" y="2944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Четвертый 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280" y="1083240"/>
            <a:ext cx="856944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Неустойчивое внимание, недостаточная способность к запоминанию, слабое развитие всех видов мышления детей с речевыми нарушениями, требует включение упражнений  на развитие психических функц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4960" y="3311640"/>
            <a:ext cx="8604360" cy="27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DD5-8CFC-47E9-BED4-20174E616B6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3600" y="4089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Развитие неречев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81240" y="28486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Что измен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70320" y="7423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Запомни, наз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1400" y="1109520"/>
            <a:ext cx="7734240" cy="16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075" t="46903" r="1075" b="0"/>
          <a:stretch/>
        </p:blipFill>
        <p:spPr>
          <a:xfrm>
            <a:off x="98280" y="3216240"/>
            <a:ext cx="8947440" cy="36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84A-B4C3-45B0-9874-7CA7ADA4487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160" y="2819520"/>
          <a:ext cx="8982000" cy="2739960"/>
        </p:xfrm>
        <a:graphic>
          <a:graphicData uri="http://schemas.openxmlformats.org/drawingml/2006/table">
            <a:tbl>
              <a:tblPr/>
              <a:tblGrid>
                <a:gridCol w="1455480"/>
                <a:gridCol w="1271880"/>
                <a:gridCol w="1295280"/>
                <a:gridCol w="987480"/>
                <a:gridCol w="1444680"/>
                <a:gridCol w="1193760"/>
                <a:gridCol w="13334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о на логопун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 (качество знаний)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 улуч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-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-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-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-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68360" y="134028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Результа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логопедического сопровождения учащихся младших классов с нарушениями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BFC-EB92-4963-AD19-4A146D0D85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" y="548640"/>
            <a:ext cx="89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Сотрудничество учителя-логопеда с учителями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7760" y="1119240"/>
            <a:ext cx="8616960" cy="5266080"/>
            <a:chOff x="347760" y="1119240"/>
            <a:chExt cx="8616960" cy="5266080"/>
          </a:xfrm>
        </p:grpSpPr>
        <p:sp>
          <p:nvSpPr>
            <p:cNvPr id="137" name=""/>
            <p:cNvSpPr/>
            <p:nvPr/>
          </p:nvSpPr>
          <p:spPr>
            <a:xfrm>
              <a:off x="3962520" y="1789200"/>
              <a:ext cx="1692000" cy="504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и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48040" y="2619360"/>
              <a:ext cx="18619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 взаимодейст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3468600"/>
              <a:ext cx="1692000" cy="5875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е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46400" y="5148360"/>
              <a:ext cx="1608120" cy="585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огопе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7760" y="3525480"/>
              <a:ext cx="3216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Сотрудничество в изучении пробл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56440" y="3500640"/>
              <a:ext cx="270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Сотрудничество в преодолении пробл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30800" y="2503800"/>
              <a:ext cx="19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решение       учебных проблем в ходе   уро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78600" y="4257720"/>
              <a:ext cx="1985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ррекционные занятия в необходимой м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17800" y="2039400"/>
              <a:ext cx="0" cy="14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017800" y="4095720"/>
              <a:ext cx="7920" cy="13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602480" y="2039400"/>
              <a:ext cx="0" cy="14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02480" y="4056120"/>
              <a:ext cx="0" cy="14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7800" y="5483160"/>
              <a:ext cx="20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17800" y="203976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654160" y="2039760"/>
              <a:ext cx="194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54160" y="5483160"/>
              <a:ext cx="194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428720" y="3124080"/>
              <a:ext cx="972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2276640"/>
              <a:ext cx="6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1320" y="4056120"/>
              <a:ext cx="0" cy="10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231880" y="2284560"/>
              <a:ext cx="3240" cy="118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7800" y="2881440"/>
              <a:ext cx="93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56000" y="1119240"/>
              <a:ext cx="279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ктивная 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6000" y="5986440"/>
              <a:ext cx="279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ктивная 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078-2F2D-4463-ADBC-7E955084E82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7080" y="795240"/>
            <a:ext cx="8872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амятка для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Что должно насторожить учителя в устной и письменной речи ученик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неправильное произношение звуков, которое может вызвать в дальнейшем дисграфию и дислекс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особый характер ошибок на пись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ошибки не на прави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стойкие ошибки, не исчезающие в процессе обу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регулярно повторяющиеся ошибки в разных видах работ независимо от психофизического состояния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искажение графических образов бук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пропуски, перестановки, добавления букв и сло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смешивание парных согласных в устной и письм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грубые аграмматизмы в устной речи и на пись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Arial"/>
              <a:buChar char="−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omic Sans MS"/>
              </a:rPr>
              <a:t>Если вы наблюдаете у ребенка ошибки такого рода, пожалуйста, убедите его родителей обратиться за помощью к логопед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Просим ва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оказать содействие в первичном логопедическом обследовании каждого ребен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обсудить вместе с логопедом проблему каждого из ваших уче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объяснить родителям необходимость логопедической помощи для их ребен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содействовать обеспечению посещаемости ребенком необходимых ему логопедических зан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930-9ED0-4B13-840E-DCF7BA082B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7080" y="808560"/>
            <a:ext cx="8872560" cy="55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Анкета для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Для повышения эффективности взаимодействия учителя и логопеда просим вас ответить на следующие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Чем, по-вашему, работа логопеда в школе отличается от работы учителя?________________ 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Какие из перечисленных ниже упражнений кажутся вам более эффективны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на развитие звукослогового состава сл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на развитие лексико-грамматического строя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на развитие речевого внимания и памя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на закрепление орфографических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3. Какими приемами, направленными на осуществление речевого развития учащихся, вы владеете? Могли бы вы поделиться своим опытом с коллегами?___________________________ ______________________________________________________________________________</a:t>
            </a: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4. Имеете ли вы возможность на уроке осуществлять поддержку детей с логопедическими проблемами. Если да, то как?_______________________________________________________ _____________________________________________________________________________</a:t>
            </a: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5. Какие проблемы в обучении детей вы хотели бы обсудить с логопедом?_______________ ______________________________________________________________________________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6. О чем бы вы хотели спросить логопеда? _______________________________________</a:t>
            </a: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7. Что бы вы сделали, если бы были логопедом?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Comic Sans MS"/>
              </a:rPr>
              <a:t>Спасибо за сотрудничест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895-F073-4EA5-9A2B-FD4962C6A8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598320"/>
            <a:ext cx="44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Сотрудничество с родит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индивидуальные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открытые занятия дл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анкетир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памятки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2160" y="2368080"/>
            <a:ext cx="8943840" cy="4629960"/>
          </a:xfrm>
          <a:prstGeom prst="rect">
            <a:avLst/>
          </a:prstGeom>
          <a:solidFill>
            <a:srgbClr val="ffe1e2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omic Sans MS"/>
              </a:rPr>
              <a:t>Советы матер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1. Ваш ребёнок лучший в мире, т.е. такой же хороший, как и все остальные де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2. Не мешайте ребёнку преодолевать трудности, и умело создавайте их. Не ругайте детей, при детях, во имя детей – никого, и тогда ваш ребёнок вырастет незлобным, добрым и обходитель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3. Не пугайте ребёнка необходимостью читать, и может быть, он полюбит кни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4. Самое лучшее воспитание – воспитание природой, добром и деятельностью, а не угрозами и упрё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5. Разрешайте ребёнку голодать от завтрака до обеда, это его сделает здоровым и весёл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6. Не нужно делать праздники для детей, нужно делать праздники вместе с деть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7. Чаще веселитесь, пойте красивые песни, приголубливайте своих детей, делайте вместе с ними что – нибудь, не ленитесь отдавать им частицу своей души, и у вас всё получи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8. Не мучайся, если что не можешь сделать для своего ребёнка, но мучайся, если можешь, но не делаеш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9. Умей любить чужого ребенка. Никогда не делай чужому ребёнку то, что не хотел бы, чтобы другие сделали тво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ff"/>
                </a:solidFill>
                <a:latin typeface="Comic Sans MS"/>
              </a:rPr>
              <a:t>10. Люби своего ребёнка любым: и талантливым, и неудачным, и взрослым. Общаясь с ним, радуйся, потому что ребёнок – это праздник, который ещё пока с тобой! Если ребёнок много видел, много понял, во много поучаствовал, научился выбирать, взаимодействовать, вступать в разумные компромиссы, если он не боится внешней среды и готов к сотрудничеству – вот есть человек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70280" y="404640"/>
            <a:ext cx="4405320" cy="23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33C-6EE3-4D80-AD2B-9CBD3099A2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8255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4280"/>
            <a:ext cx="8642160" cy="43200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</a:t>
            </a:r>
            <a:r>
              <a:rPr b="1" lang="ru-RU" sz="1800" spc="-1" strike="noStrike">
                <a:solidFill>
                  <a:srgbClr val="66ccff"/>
                </a:solidFill>
                <a:latin typeface="Comic Sans MS"/>
              </a:rPr>
              <a:t>«Луховский лицей»</a:t>
            </a:r>
            <a:r>
              <a:rPr b="1" lang="ru-RU" sz="20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81080" y="3933720"/>
            <a:ext cx="5527800" cy="756000"/>
          </a:xfrm>
          <a:prstGeom prst="wedgeRectCallout">
            <a:avLst>
              <a:gd name="adj1" fmla="val -1527"/>
              <a:gd name="adj2" fmla="val -1501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0640"/>
            <a:ext cx="9144000" cy="432000"/>
          </a:xfrm>
          <a:prstGeom prst="wedgeRectCallout">
            <a:avLst>
              <a:gd name="adj1" fmla="val 28578"/>
              <a:gd name="adj2" fmla="val 178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Информация об учителе-логопеде</a:t>
            </a: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5680" y="1185840"/>
          <a:ext cx="5832360" cy="4907160"/>
        </p:xfrm>
        <a:graphic>
          <a:graphicData uri="http://schemas.openxmlformats.org/drawingml/2006/table">
            <a:tbl>
              <a:tblPr/>
              <a:tblGrid>
                <a:gridCol w="2376360"/>
                <a:gridCol w="345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Фамилия, имя, отчест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>
                      <a:noFill/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еонтьева Марина Серге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Дата рождения</a:t>
                      </a: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 января 1967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Обра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ысш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ВУЗ, факультет, дата окон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ГПИ им. М. Е. Евсевьева, дефектология (олигофрено-педагогика с дополнительной специальностью логопедия), 198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Специальность по дипл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итель и логопед специальной (вспомогательной) школы, оли-гофренопедагог  дошкольного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Педагогический ст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Квалификационная категор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ерв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Учеб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Занимаемая 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итель-лого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>
                      <a:noFill/>
                    </a:lnR>
                    <a:lnT w="5760">
                      <a:solidFill>
                        <a:srgbClr val="66cc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8200" y="1228680"/>
            <a:ext cx="2774880" cy="47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0AA-548D-44A7-9DE4-2398B6E561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620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Я учусь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928000" cy="406368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69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амятка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оверь свою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ерв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оверь отдельно каждое слово, начиная с последн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пропустил ли ты букв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добавил ли лишнюю букв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написал ли вместо одной буквы другу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равильно ли ты изобразил каждую букв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торая провер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оверь целиком каждое предложение, начиная с перв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пропустил ли ты слов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написал ли лишнее слов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Как написаны предлоги и союз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равильно ли слова связаны друг с другом? (Проверь окончания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Есть ли точка в конце и заглавная буква в начале предлож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Есть ли необходимые запятые и другие знаки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сли в твоей работе больше нет таких ошибок, ты — молод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D6F-32B3-44E3-9701-195691A20CC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8255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920" y="439200"/>
            <a:ext cx="8964720" cy="60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Функционирование логопедической службы в МОУ «Луховский лицей» осуществляется на протяжении 15  лет (с 1993 года) учителем-логопедом </a:t>
            </a:r>
            <a:r>
              <a:rPr b="1" lang="ru-RU" sz="1500" spc="-1" strike="noStrike">
                <a:solidFill>
                  <a:srgbClr val="ff0000"/>
                </a:solidFill>
                <a:latin typeface="Comic Sans MS"/>
              </a:rPr>
              <a:t>Леонтьевой М. С.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, работа которой спланирована в соответствии с педагогической проблемой школы и задачами логопедического пункт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Организация диагностического обследования и своевременное выявление обучающихся с речевой патологие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Зачисление обучающихся на логопедический пункт, комплектование групп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Коррекционно-развивающее обучение детей с нарушениями реч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Осуществление систематической взаимосвязи с классными руководителями и родителями учащихся, посещающих логопедический пункт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Посещение уроков с целью выработки единой направленности в работе логопеда и учителя с учащимися, имеющими нарушения реч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Информирование педагогического совета школы о задачах, содержании и результатах работы логопедического пункт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Участие (выступления с сообщениями и докладами) в заседаниях кафедры начального обу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Посещение и активное участие в методических объединениях учителей-логопедов ОУ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Оснащение логопедического кабинета необходимым дидактическим материало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Поддерживание связи с дошкольными образовательными учреждениями, логопедами и врачами-специалистами детских поликлиник и психолого-медико-педагогической комисси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Повышение своей профессиональной квалифик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Выполнение правил и норм охраны труда, техники безопасности и противопожарной защит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1500" spc="-1" strike="noStrike">
                <a:solidFill>
                  <a:srgbClr val="ff0000"/>
                </a:solidFill>
                <a:latin typeface="Comic Sans MS"/>
              </a:rPr>
              <a:t>- Обеспечение охраны жизни и здоровья обучающихся в период образовательного процес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51E-643F-4089-8C6E-67BDA29332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8255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760" y="979200"/>
            <a:ext cx="89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читель-логопед Леонтьева М. С. ведёт по установленной форме следующую документа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1. Список учащихся с недостаткам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2. Журнал обследования устной и письмен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3. Журнал учёта посещаемости (групповых и индивидуальных)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4. Речевая к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5. Годовой методический план работы учителя-лого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6. Перспективный план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7. Конспекты или развёрнутые планы логопедических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8. Рабочие тетради и тетради для провероч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9. Расписание занятий групп, заверенное директор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10. Паспорт логопедического кабинета ,картотека оборудования, учебных и наглядных пособ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11. Годовой отчёт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7F1-2159-4A37-9524-3D287178B7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8255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984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60" y="399240"/>
            <a:ext cx="89647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облема над которой работает учитель-логоп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«Специфика логопедической работы  по устранению оптической формы дислексии и дисгр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920" y="1596240"/>
            <a:ext cx="8964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Материал собранный по данной пробл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«Формирование пространственного ориентирования как профилактика нарушений письма»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66ff"/>
                </a:solidFill>
                <a:latin typeface="Comic Sans MS"/>
              </a:rPr>
              <a:t>(заседание кафедры начального обучения,  март 200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«Развитие зрительно-моторных координаций при трудностях обучения письму»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66ff"/>
                </a:solidFill>
                <a:latin typeface="Comic Sans MS"/>
              </a:rPr>
              <a:t>(заседание кафедры начального обучения,  апрель 2006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«Проблема зеркального письма у учащихся 1-х классов» </a:t>
            </a:r>
            <a:r>
              <a:rPr b="0" i="1" lang="en-US" sz="1600" spc="-1" strike="noStrike">
                <a:solidFill>
                  <a:srgbClr val="0066ff"/>
                </a:solidFill>
                <a:latin typeface="Comic Sans MS"/>
              </a:rPr>
              <a:t>(городской семинар учителей-логопедов, сентябрь 2008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0" y="4290480"/>
            <a:ext cx="4478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обран и разработан практический материал для фронтальной и индивидуальной работы на логопедических занят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Альбомы упражнений по преодолению оптической формы дисграфии (№1 и №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6680" y="3789360"/>
            <a:ext cx="4498920" cy="30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211-3A96-461D-8C1D-0501D4AC42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132560"/>
            <a:ext cx="58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воевременное и правильно проведенное обследование – залог успех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" y="2813040"/>
            <a:ext cx="5919840" cy="389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35840" y="430200"/>
            <a:ext cx="2909880" cy="418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991-33CA-4D90-8A7A-EE0D692087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5000" y="892080"/>
          <a:ext cx="889308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892080"/>
                    <a:ext cx="889308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AB1-08F0-49FA-BB10-805BEBBCAF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2000" y="969840"/>
          <a:ext cx="884880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969840"/>
                    <a:ext cx="88488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3D7-FD12-4CCC-A2A5-6546FD57BB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255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61800"/>
            <a:ext cx="856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9840"/>
            <a:ext cx="8642160" cy="431640"/>
          </a:xfrm>
          <a:prstGeom prst="wedgeRectCallout">
            <a:avLst>
              <a:gd name="adj1" fmla="val 26745"/>
              <a:gd name="adj2" fmla="val -44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66ccff"/>
                </a:solidFill>
                <a:latin typeface="Comic Sans MS"/>
              </a:rPr>
              <a:t>Муниципальное образовательное учреждение «Луховский лицей»</a:t>
            </a:r>
            <a:r>
              <a:rPr b="1" lang="ru-RU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3493800"/>
            <a:ext cx="39909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ff"/>
                </a:solidFill>
                <a:latin typeface="Arial"/>
              </a:rPr>
              <a:t>Отбираются оптимальные формы и виды учебной работы, специальные задания и упражнения, выполнение которых не только подчинено решению основных задач каждого этапа коррекционно-развивающего обучения, но и способствует активизации мыслительной деятельности, развитию речемыслительной активности, коммуникативных навыков и самостоятельности учащихся, что делает процесс коррекционного обучения учащихся с нарушениями речи наиболее эффективн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00" y="476280"/>
            <a:ext cx="28036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ff"/>
                </a:solidFill>
                <a:latin typeface="Arial"/>
              </a:rPr>
              <a:t>На занятиях реализуются задачи коррекционно-раз-вивающего обучения детей с нарушениями речи, четко продумана и поэтапно спланирована как вся система коррекционной работы с той или иной группой учащихся в целом, так и каждое лого-педическое занятие в отд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25720" y="487440"/>
            <a:ext cx="6114960" cy="292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8280" y="3454560"/>
            <a:ext cx="4932360" cy="329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422-6A64-4EC9-AB7D-A75D446E9B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4:37Z</dcterms:created>
  <dc:creator>LEON</dc:creator>
  <dc:description/>
  <dc:language>en-US</dc:language>
  <cp:lastModifiedBy>LEON</cp:lastModifiedBy>
  <dcterms:modified xsi:type="dcterms:W3CDTF">2008-10-26T19:06:41Z</dcterms:modified>
  <cp:revision>76</cp:revision>
  <dc:subject/>
  <dc:title>Слайд 1</dc:title>
</cp:coreProperties>
</file>