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5AD3-3CA3-4752-9427-027DBAECC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9161-427B-4085-8F2C-D174E987C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7EED-7535-4209-A316-32982F639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1418-1255-4BC8-B7C2-C9FEE543B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85FCE-10A7-49F8-8BE2-F8A28817D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85C3C-DC6D-42A7-AB2C-D58FCF6F6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2E518-103B-4D66-A263-60D4BEDAC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61DB4-2A33-4A34-8B25-2525A7C66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D1B50-EC01-44A7-A6FA-6AB7458B2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34FD3-B54C-441A-B43A-F96540640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B47A8-DE46-4E25-9979-3CAA7AE59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40B3-AD4A-47C1-B49B-867733939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5D2F1-5550-409D-9C15-37527945A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FB7BF-5435-423F-BEC2-1CED38E5B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B9F0A-AD72-412E-A48B-494609F5D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1102B-5BE1-419C-8133-87BB45F27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AA855-B699-427E-B5DD-C7F84D2A7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97EE-0A02-40D8-8D18-0BDA374D9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D7D0-7D88-4F9E-B31B-BE8ABAD63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EB67-8BC9-4A79-8EEE-D12719F89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6C11-8CF4-43C0-B447-ED0A7A2C9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A9E0-EF29-49DA-82C0-2CD5FB5E8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9C30-4205-4A06-9174-7927AA340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CD3D-7820-46FA-ACC6-BEF31D66D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6D91A-3069-40FF-9B1D-6C4E3621A99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556D1-E7E0-4B9C-B2F4-E6F7249BCCE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7.xml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8459640" cy="765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Муниципальное общеобразовательное учреждение </a:t>
            </a:r>
            <a:br>
              <a:rPr sz="2800"/>
            </a:b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«Луховский лицей»</a:t>
            </a: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0" y="2491920"/>
            <a:ext cx="9144000" cy="41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Урок русского языка в 4 классе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Тема: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Имя числительное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Значение и роль имен числительных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в реч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Учитель начальных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классов МОУ «Луховский лицей»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Великанова Елена Александровн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УМК «Начальная школа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XXI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 века»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fb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42560" y="333360"/>
            <a:ext cx="687060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Имя числительно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/>
          <p:nvPr/>
        </p:nvSpPr>
        <p:spPr>
          <a:xfrm>
            <a:off x="4643280" y="2205000"/>
            <a:ext cx="31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84360" y="1844640"/>
            <a:ext cx="28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оличеств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284720" y="184464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рядко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844720" y="260208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обознача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84360" y="3284640"/>
            <a:ext cx="252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оличество предме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005440" y="3284640"/>
            <a:ext cx="31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рядок предметов при сче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268360" y="4268880"/>
            <a:ext cx="38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отвечают на вопро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28720" y="510372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кольк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761080" y="4951440"/>
            <a:ext cx="302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оторы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ако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2050920" y="981000"/>
            <a:ext cx="93672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508720" y="1052640"/>
            <a:ext cx="79200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763640" y="2276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43640" y="2276640"/>
            <a:ext cx="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547640" y="4005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588000" y="400536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7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9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fb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687096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равило из учебни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"/>
          <p:cNvSpPr/>
          <p:nvPr/>
        </p:nvSpPr>
        <p:spPr>
          <a:xfrm>
            <a:off x="7596360" y="5877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hlinkClick r:id="rId1" action="ppaction://hlinksldjump"/>
              </a:rPr>
              <a:t>План ур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187280" y="907920"/>
            <a:ext cx="7561440" cy="48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Слова </a:t>
            </a:r>
            <a:r>
              <a:rPr b="0" i="1" lang="en-US" sz="2300" spc="-1" strike="noStrike">
                <a:solidFill>
                  <a:srgbClr val="000000"/>
                </a:solidFill>
                <a:latin typeface="Times New Roman"/>
              </a:rPr>
              <a:t>девять, шесть, второй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– это имена числительные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Имя числительное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– это часть речи, которая называет количество предметов – </a:t>
            </a:r>
            <a:r>
              <a:rPr b="1" i="1" lang="en-US" sz="2300" spc="-1" strike="noStrike">
                <a:solidFill>
                  <a:srgbClr val="000000"/>
                </a:solidFill>
                <a:latin typeface="Times New Roman"/>
              </a:rPr>
              <a:t>два</a:t>
            </a:r>
            <a:r>
              <a:rPr b="0" i="1" lang="en-US" sz="2300" spc="-1" strike="noStrike">
                <a:solidFill>
                  <a:srgbClr val="000000"/>
                </a:solidFill>
                <a:latin typeface="Times New Roman"/>
              </a:rPr>
              <a:t> стола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300" spc="-1" strike="noStrike">
                <a:solidFill>
                  <a:srgbClr val="000000"/>
                </a:solidFill>
                <a:latin typeface="Times New Roman"/>
              </a:rPr>
              <a:t>пять</a:t>
            </a:r>
            <a:r>
              <a:rPr b="0" i="1" lang="en-US" sz="2300" spc="-1" strike="noStrike">
                <a:solidFill>
                  <a:srgbClr val="000000"/>
                </a:solidFill>
                <a:latin typeface="Times New Roman"/>
              </a:rPr>
              <a:t> дней, </a:t>
            </a:r>
            <a:r>
              <a:rPr b="1" i="1" lang="en-US" sz="2300" spc="-1" strike="noStrike">
                <a:solidFill>
                  <a:srgbClr val="000000"/>
                </a:solidFill>
                <a:latin typeface="Times New Roman"/>
              </a:rPr>
              <a:t>шестнадцать</a:t>
            </a:r>
            <a:r>
              <a:rPr b="0" i="1" lang="en-US" sz="2300" spc="-1" strike="noStrike">
                <a:solidFill>
                  <a:srgbClr val="000000"/>
                </a:solidFill>
                <a:latin typeface="Times New Roman"/>
              </a:rPr>
              <a:t> этажей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– или порядок предметов при счете – </a:t>
            </a:r>
            <a:r>
              <a:rPr b="1" i="1" lang="en-US" sz="2300" spc="-1" strike="noStrike">
                <a:solidFill>
                  <a:srgbClr val="000000"/>
                </a:solidFill>
                <a:latin typeface="Times New Roman"/>
              </a:rPr>
              <a:t>второй</a:t>
            </a:r>
            <a:r>
              <a:rPr b="0" i="1" lang="en-US" sz="2300" spc="-1" strike="noStrike">
                <a:solidFill>
                  <a:srgbClr val="000000"/>
                </a:solidFill>
                <a:latin typeface="Times New Roman"/>
              </a:rPr>
              <a:t> стол, </a:t>
            </a:r>
            <a:r>
              <a:rPr b="1" i="1" lang="en-US" sz="2300" spc="-1" strike="noStrike">
                <a:solidFill>
                  <a:srgbClr val="000000"/>
                </a:solidFill>
                <a:latin typeface="Times New Roman"/>
              </a:rPr>
              <a:t>пятый</a:t>
            </a:r>
            <a:r>
              <a:rPr b="0" i="1" lang="en-US" sz="2300" spc="-1" strike="noStrike">
                <a:solidFill>
                  <a:srgbClr val="000000"/>
                </a:solidFill>
                <a:latin typeface="Times New Roman"/>
              </a:rPr>
              <a:t> день, </a:t>
            </a:r>
            <a:r>
              <a:rPr b="1" i="1" lang="en-US" sz="2300" spc="-1" strike="noStrike">
                <a:solidFill>
                  <a:srgbClr val="000000"/>
                </a:solidFill>
                <a:latin typeface="Times New Roman"/>
              </a:rPr>
              <a:t>шестнадцатый</a:t>
            </a:r>
            <a:r>
              <a:rPr b="0" i="1" lang="en-US" sz="2300" spc="-1" strike="noStrike">
                <a:solidFill>
                  <a:srgbClr val="000000"/>
                </a:solidFill>
                <a:latin typeface="Times New Roman"/>
              </a:rPr>
              <a:t> этаж, </a:t>
            </a:r>
            <a:r>
              <a:rPr b="1" i="1" lang="en-US" sz="2300" spc="-1" strike="noStrike">
                <a:solidFill>
                  <a:srgbClr val="000000"/>
                </a:solidFill>
                <a:latin typeface="Times New Roman"/>
              </a:rPr>
              <a:t>двадцать третий</a:t>
            </a:r>
            <a:r>
              <a:rPr b="0" i="1" lang="en-US" sz="2300" spc="-1" strike="noStrike">
                <a:solidFill>
                  <a:srgbClr val="000000"/>
                </a:solidFill>
                <a:latin typeface="Times New Roman"/>
              </a:rPr>
              <a:t> день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Имена числительные, которые называют количество предметов, отвечают на вопрос </a:t>
            </a:r>
            <a:r>
              <a:rPr b="1" i="1" lang="en-US" sz="2300" spc="-1" strike="noStrike">
                <a:solidFill>
                  <a:srgbClr val="000000"/>
                </a:solidFill>
                <a:latin typeface="Times New Roman"/>
              </a:rPr>
              <a:t>сколько?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Это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количественные числительные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Имена числительные, которые называют порядок предметов при счете, отвечают на вопрос </a:t>
            </a:r>
            <a:r>
              <a:rPr b="1" i="1" lang="en-US" sz="2300" spc="-1" strike="noStrike">
                <a:solidFill>
                  <a:srgbClr val="000000"/>
                </a:solidFill>
                <a:latin typeface="Times New Roman"/>
              </a:rPr>
              <a:t>какой? какая? какое? какие?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Это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порядковые числительные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79280" y="1052640"/>
          <a:ext cx="1040040" cy="158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052640"/>
                    <a:ext cx="1040040" cy="15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hecke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250920" y="404640"/>
          <a:ext cx="8602200" cy="5333400"/>
        </p:xfrm>
        <a:graphic>
          <a:graphicData uri="http://schemas.openxmlformats.org/drawingml/2006/table">
            <a:tbl>
              <a:tblPr/>
              <a:tblGrid>
                <a:gridCol w="8602200"/>
              </a:tblGrid>
              <a:tr h="5333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ставь словосочетани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пять, пятеро) (сестры) –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два, двое) (ребят) –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ри, трое) (котят) –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четверо, четыре) (суток) –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шесть, шестеро) (апельсины, помидоры) -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58560" y="404280"/>
            <a:ext cx="68706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Запомни!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пять сестер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двое ребя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трое котя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четверо суток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шесть апельсинов, помидоров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8" name=""/>
          <p:cNvGraphicFramePr/>
          <p:nvPr/>
        </p:nvGraphicFramePr>
        <p:xfrm>
          <a:off x="2050920" y="620640"/>
          <a:ext cx="6622560" cy="4752000"/>
        </p:xfrm>
        <a:graphic>
          <a:graphicData uri="http://schemas.openxmlformats.org/drawingml/2006/table">
            <a:tbl>
              <a:tblPr/>
              <a:tblGrid>
                <a:gridCol w="6622560"/>
              </a:tblGrid>
              <a:tr h="127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 есть ошибки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5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 правильно и быстро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3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 правильно, но с помощью других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>
            <a:off x="611280" y="765000"/>
            <a:ext cx="1079280" cy="936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84360" y="1989000"/>
            <a:ext cx="1079280" cy="936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55640" y="3500280"/>
            <a:ext cx="1079640" cy="936720"/>
          </a:xfrm>
          <a:prstGeom prst="rect">
            <a:avLst/>
          </a:prstGeom>
          <a:solidFill>
            <a:srgbClr val="2108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40720" y="57340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hlinkClick r:id="rId1" action="ppaction://hlinksldjump"/>
              </a:rPr>
              <a:t>План ур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187280" y="765000"/>
            <a:ext cx="6624720" cy="41958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7740720" y="55897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hlinkClick r:id="rId2" action="ppaction://hlinksldjump"/>
              </a:rPr>
              <a:t>План ур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7740720" y="57340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hlinkClick r:id="rId1" action="ppaction://hlinksldjump"/>
              </a:rPr>
              <a:t>План ур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826920" y="620640"/>
          <a:ext cx="7696080" cy="4715640"/>
        </p:xfrm>
        <a:graphic>
          <a:graphicData uri="http://schemas.openxmlformats.org/drawingml/2006/table">
            <a:tbl>
              <a:tblPr/>
              <a:tblGrid>
                <a:gridCol w="7696080"/>
              </a:tblGrid>
              <a:tr h="47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2 3 4 5 6 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 Наговорить с _____короба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______пятниц на неделе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Знать как свои______ пальцев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_______в поле не воин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_______сапога пара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.Магическое число - шестьсот шестьдесят________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. Идти на все ________ стороны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"/>
          <p:cNvSpPr/>
          <p:nvPr/>
        </p:nvSpPr>
        <p:spPr>
          <a:xfrm>
            <a:off x="3995640" y="105264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ff00"/>
                </a:solidFill>
                <a:latin typeface="Times New Roman"/>
              </a:rPr>
              <a:t>т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7280" y="155736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ff00"/>
                </a:solidFill>
                <a:latin typeface="Times New Roman"/>
              </a:rPr>
              <a:t>Сем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140360" y="2060640"/>
            <a:ext cx="136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ff00"/>
                </a:solidFill>
                <a:latin typeface="Times New Roman"/>
              </a:rPr>
              <a:t>п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332000" y="256536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ff00"/>
                </a:solidFill>
                <a:latin typeface="Times New Roman"/>
              </a:rPr>
              <a:t>Од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403280" y="299736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ff00"/>
                </a:solidFill>
                <a:latin typeface="Times New Roman"/>
              </a:rPr>
              <a:t>Д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03640" y="400536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ff00"/>
                </a:solidFill>
                <a:latin typeface="Times New Roman"/>
              </a:rPr>
              <a:t>ш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635280" y="45086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ff00"/>
                </a:solidFill>
                <a:latin typeface="Times New Roman"/>
              </a:rPr>
              <a:t>четы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u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5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8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6920" y="-31644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четыр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шест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ем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трижды тр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девят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двадцать пят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"/>
          <p:cNvSpPr/>
          <p:nvPr/>
        </p:nvSpPr>
        <p:spPr>
          <a:xfrm>
            <a:off x="7740720" y="558972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лан ур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1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Оцени себ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1280" y="2637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2-10 баллов – высокий уровен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9-6 баллов – средний уровен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Меньше 6 баллов – низкий уровен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"/>
          <p:cNvSpPr/>
          <p:nvPr/>
        </p:nvSpPr>
        <p:spPr>
          <a:xfrm>
            <a:off x="7740720" y="558972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Бароме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1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Отдохни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116000" y="2349000"/>
            <a:ext cx="4176720" cy="432360"/>
            <a:chOff x="1116000" y="2349000"/>
            <a:chExt cx="4176720" cy="432360"/>
          </a:xfrm>
        </p:grpSpPr>
        <p:sp>
          <p:nvSpPr>
            <p:cNvPr id="232" name=""/>
            <p:cNvSpPr/>
            <p:nvPr/>
          </p:nvSpPr>
          <p:spPr>
            <a:xfrm flipV="1">
              <a:off x="1116000" y="2349360"/>
              <a:ext cx="57636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692360" y="2349360"/>
              <a:ext cx="43164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2124000" y="2349000"/>
              <a:ext cx="57636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700360" y="2349360"/>
              <a:ext cx="50328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3203640" y="2349000"/>
              <a:ext cx="57636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780000" y="2349360"/>
              <a:ext cx="50472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4284720" y="2349000"/>
              <a:ext cx="50328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788000" y="2349360"/>
              <a:ext cx="50472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971640" y="2997360"/>
            <a:ext cx="5040360" cy="660240"/>
          </a:xfrm>
          <a:custGeom>
            <a:avLst/>
            <a:gdLst/>
            <a:ahLst/>
            <a:rect l="l" t="t" r="r" b="b"/>
            <a:pathLst>
              <a:path w="3175" h="416">
                <a:moveTo>
                  <a:pt x="0" y="408"/>
                </a:moveTo>
                <a:cubicBezTo>
                  <a:pt x="185" y="226"/>
                  <a:pt x="370" y="45"/>
                  <a:pt x="544" y="45"/>
                </a:cubicBezTo>
                <a:cubicBezTo>
                  <a:pt x="718" y="45"/>
                  <a:pt x="869" y="400"/>
                  <a:pt x="1043" y="408"/>
                </a:cubicBezTo>
                <a:cubicBezTo>
                  <a:pt x="1217" y="416"/>
                  <a:pt x="1414" y="98"/>
                  <a:pt x="1588" y="91"/>
                </a:cubicBezTo>
                <a:cubicBezTo>
                  <a:pt x="1762" y="84"/>
                  <a:pt x="1913" y="378"/>
                  <a:pt x="2087" y="363"/>
                </a:cubicBezTo>
                <a:cubicBezTo>
                  <a:pt x="2261" y="348"/>
                  <a:pt x="2450" y="0"/>
                  <a:pt x="2631" y="0"/>
                </a:cubicBezTo>
                <a:cubicBezTo>
                  <a:pt x="2812" y="0"/>
                  <a:pt x="3084" y="310"/>
                  <a:pt x="3175" y="36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971640" y="3933720"/>
            <a:ext cx="5473440" cy="790560"/>
            <a:chOff x="971640" y="3933720"/>
            <a:chExt cx="5473440" cy="790560"/>
          </a:xfrm>
        </p:grpSpPr>
        <p:grpSp>
          <p:nvGrpSpPr>
            <p:cNvPr id="242" name=""/>
            <p:cNvGrpSpPr/>
            <p:nvPr/>
          </p:nvGrpSpPr>
          <p:grpSpPr>
            <a:xfrm>
              <a:off x="971640" y="4149720"/>
              <a:ext cx="1368360" cy="574560"/>
              <a:chOff x="971640" y="4149720"/>
              <a:chExt cx="1368360" cy="574560"/>
            </a:xfrm>
          </p:grpSpPr>
          <p:sp>
            <p:nvSpPr>
              <p:cNvPr id="243" name=""/>
              <p:cNvSpPr/>
              <p:nvPr/>
            </p:nvSpPr>
            <p:spPr>
              <a:xfrm flipV="1">
                <a:off x="971640" y="4149720"/>
                <a:ext cx="0" cy="57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971640" y="4149720"/>
                <a:ext cx="72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692360" y="4149720"/>
                <a:ext cx="0" cy="50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692360" y="4653000"/>
                <a:ext cx="647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2340000" y="4076640"/>
              <a:ext cx="1368360" cy="574560"/>
              <a:chOff x="2340000" y="4076640"/>
              <a:chExt cx="1368360" cy="574560"/>
            </a:xfrm>
          </p:grpSpPr>
          <p:sp>
            <p:nvSpPr>
              <p:cNvPr id="248" name=""/>
              <p:cNvSpPr/>
              <p:nvPr/>
            </p:nvSpPr>
            <p:spPr>
              <a:xfrm flipV="1">
                <a:off x="2340000" y="4076640"/>
                <a:ext cx="0" cy="57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340000" y="4076640"/>
                <a:ext cx="72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060720" y="4076640"/>
                <a:ext cx="0" cy="50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060720" y="4579920"/>
                <a:ext cx="647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3708360" y="4005360"/>
              <a:ext cx="1368360" cy="574560"/>
              <a:chOff x="3708360" y="4005360"/>
              <a:chExt cx="1368360" cy="574560"/>
            </a:xfrm>
          </p:grpSpPr>
          <p:sp>
            <p:nvSpPr>
              <p:cNvPr id="253" name=""/>
              <p:cNvSpPr/>
              <p:nvPr/>
            </p:nvSpPr>
            <p:spPr>
              <a:xfrm flipV="1">
                <a:off x="3708360" y="4005360"/>
                <a:ext cx="0" cy="57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708360" y="4005360"/>
                <a:ext cx="72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429080" y="4005360"/>
                <a:ext cx="0" cy="50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429080" y="4508640"/>
                <a:ext cx="647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5076720" y="3933720"/>
              <a:ext cx="1368360" cy="574560"/>
              <a:chOff x="5076720" y="3933720"/>
              <a:chExt cx="1368360" cy="574560"/>
            </a:xfrm>
          </p:grpSpPr>
          <p:sp>
            <p:nvSpPr>
              <p:cNvPr id="258" name=""/>
              <p:cNvSpPr/>
              <p:nvPr/>
            </p:nvSpPr>
            <p:spPr>
              <a:xfrm flipV="1">
                <a:off x="5076720" y="3933720"/>
                <a:ext cx="0" cy="57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076720" y="3933720"/>
                <a:ext cx="72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797440" y="3933720"/>
                <a:ext cx="0" cy="50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797440" y="4437000"/>
                <a:ext cx="647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124000" y="333360"/>
            <a:ext cx="5184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Барометр настроения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"/>
          <p:cNvSpPr/>
          <p:nvPr/>
        </p:nvSpPr>
        <p:spPr>
          <a:xfrm>
            <a:off x="971640" y="3141720"/>
            <a:ext cx="1944720" cy="1944720"/>
          </a:xfrm>
          <a:prstGeom prst="smileyFace">
            <a:avLst>
              <a:gd name="adj" fmla="val 9282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635280" y="1557360"/>
            <a:ext cx="1944720" cy="1944720"/>
          </a:xfrm>
          <a:prstGeom prst="smileyFace">
            <a:avLst>
              <a:gd name="adj" fmla="val -212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012000" y="3284640"/>
            <a:ext cx="1944720" cy="1944720"/>
          </a:xfrm>
          <a:prstGeom prst="smileyFace">
            <a:avLst>
              <a:gd name="adj" fmla="val -4652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4643280" y="3789000"/>
            <a:ext cx="0" cy="1368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667640" y="5805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лан ур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26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1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55280" y="-800280"/>
            <a:ext cx="6870600" cy="16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Релаксация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447920" y="836640"/>
            <a:ext cx="769608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Все умеют танцевать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Прыгать, бегать, рисовать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Но пока не все умею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Расслабляться, отдыхать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Есть у нас игра такая –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Очень легкая, простая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Замедляется движенье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Исчезает напряженье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И становится понятно –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Расслабление приятно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пасибо за работу на уроке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132000" y="0"/>
            <a:ext cx="314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План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908000" y="765000"/>
          <a:ext cx="5543640" cy="2113200"/>
        </p:xfrm>
        <a:graphic>
          <a:graphicData uri="http://schemas.openxmlformats.org/drawingml/2006/table">
            <a:tbl>
              <a:tblPr/>
              <a:tblGrid>
                <a:gridCol w="5543640"/>
              </a:tblGrid>
              <a:tr h="55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  <a:hlinkClick r:id="rId1" action="ppaction://hlinksldjump"/>
                        </a:rPr>
                        <a:t>Тема уро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  <a:hlinkClick r:id="rId2" action="ppaction://hlinksldjump"/>
                        </a:rPr>
                        <a:t>Выборочный диктан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  <a:hlinkClick r:id="rId3" action="ppaction://hlinksldjump"/>
                        </a:rPr>
                        <a:t>Словарная рабо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  <a:hlinkClick r:id="rId4" action="ppaction://hlinksldjump"/>
                        </a:rPr>
                        <a:t>Правил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bd71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1908000" y="2852640"/>
          <a:ext cx="5529600" cy="3213360"/>
        </p:xfrm>
        <a:graphic>
          <a:graphicData uri="http://schemas.openxmlformats.org/drawingml/2006/table">
            <a:tbl>
              <a:tblPr/>
              <a:tblGrid>
                <a:gridCol w="5529600"/>
              </a:tblGrid>
              <a:tr h="66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Говори правильно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66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изкультминут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296e0"/>
                    </a:solidFill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теллектуальная размин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85ff"/>
                    </a:solidFill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акрепл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800"/>
                    </a:solidFill>
                  </a:tcPr>
                </a:tc>
              </a:tr>
              <a:tr h="66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лексия      Релаксац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</p:spTree>
  </p:cSld>
  <p:transition spd="med">
    <p:cover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f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0" y="692280"/>
            <a:ext cx="9144000" cy="42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Начинается считалка: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На березу села галка,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Две вороны, воробей,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Три сороки, соловей.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7667640" y="5661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hlinkClick r:id="rId1" action="ppaction://hlinksldjump"/>
              </a:rPr>
              <a:t>План ур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f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2050920" y="620640"/>
          <a:ext cx="6622560" cy="4752000"/>
        </p:xfrm>
        <a:graphic>
          <a:graphicData uri="http://schemas.openxmlformats.org/drawingml/2006/table">
            <a:tbl>
              <a:tblPr/>
              <a:tblGrid>
                <a:gridCol w="6622560"/>
              </a:tblGrid>
              <a:tr h="127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ошибки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5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красиво, без ошибок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3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стараюсь, но не все   получается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65" name=""/>
          <p:cNvGrpSpPr/>
          <p:nvPr/>
        </p:nvGrpSpPr>
        <p:grpSpPr>
          <a:xfrm>
            <a:off x="684360" y="765000"/>
            <a:ext cx="1079280" cy="3672000"/>
            <a:chOff x="684360" y="765000"/>
            <a:chExt cx="1079280" cy="3672000"/>
          </a:xfrm>
        </p:grpSpPr>
        <p:sp>
          <p:nvSpPr>
            <p:cNvPr id="166" name=""/>
            <p:cNvSpPr/>
            <p:nvPr/>
          </p:nvSpPr>
          <p:spPr>
            <a:xfrm>
              <a:off x="684360" y="765000"/>
              <a:ext cx="1079280" cy="936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84360" y="2060640"/>
              <a:ext cx="1079280" cy="93672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84360" y="3500280"/>
              <a:ext cx="1079280" cy="936720"/>
            </a:xfrm>
            <a:prstGeom prst="rect">
              <a:avLst/>
            </a:prstGeom>
            <a:solidFill>
              <a:srgbClr val="2108b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7667640" y="580536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hlinkClick r:id="rId1" action="ppaction://hlinksldjump"/>
              </a:rPr>
              <a:t>План ур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f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42560" y="162828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Имя числительное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/>
          <p:nvPr/>
        </p:nvSpPr>
        <p:spPr>
          <a:xfrm>
            <a:off x="7667640" y="580536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лан ур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79280" y="2349360"/>
            <a:ext cx="8964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имя числительное + имя существительно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push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539280" y="260280"/>
            <a:ext cx="6696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ять ребя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ять опя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шесть мыша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два брюш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четыре уш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емь братьев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/>
          <p:nvPr/>
        </p:nvSpPr>
        <p:spPr>
          <a:xfrm>
            <a:off x="539640" y="4292640"/>
            <a:ext cx="769644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6 баллов (пример записи 4/6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667640" y="57340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hlinkClick r:id="rId1" action="ppaction://hlinksldjump"/>
              </a:rPr>
              <a:t>План ур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u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685800" y="1828440"/>
            <a:ext cx="769608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осе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[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’]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[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]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и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[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]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дцать, ше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[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н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]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дцать, дв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[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]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дцат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/>
          <p:nvPr/>
        </p:nvSpPr>
        <p:spPr>
          <a:xfrm>
            <a:off x="4211640" y="191628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55640" y="357336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осемь, одиннадцать, двенадцать, шестнадц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19199400">
            <a:off x="2426040" y="3607560"/>
            <a:ext cx="1583280" cy="1298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780000" y="3499920"/>
            <a:ext cx="64764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27640" y="3500280"/>
            <a:ext cx="86508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059280" y="549360"/>
            <a:ext cx="306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8, 11, 12, 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667640" y="580536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лан ур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0:31:48Z</dcterms:created>
  <dc:creator>Учитель</dc:creator>
  <dc:description/>
  <dc:language>en-US</dc:language>
  <cp:lastModifiedBy>Администратор</cp:lastModifiedBy>
  <dcterms:modified xsi:type="dcterms:W3CDTF">2006-03-03T13:08:18Z</dcterms:modified>
  <cp:revision>72</cp:revision>
  <dc:subject/>
  <dc:title>Муниципальное общеобразовательное учреждение «Луховский лицей» </dc:title>
</cp:coreProperties>
</file>