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C615-5F12-4B57-B310-59DD8A26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69EF-B33F-4909-8EAD-D0491956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8CA7-1B15-43DB-AB62-BD7713C2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E00C-865C-4245-AFCA-9809EC38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1E66-1A48-4ED3-B104-2DC29503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1EF4-B9D0-41ED-B69B-91488FCD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3196-C584-449D-9465-D156AC29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68D5-1949-447B-833E-5524239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0C3A-A288-4896-90E7-E37E2C4A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E88D-AFFC-4D5F-BB8C-B8D32912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266F-3F9D-47A1-B95D-EB2905DF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C399-8EEE-4909-968A-E469AEFE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2F0F-25AA-4DD2-B1CB-92D80EE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3A89-F85A-444F-94D6-FB1A56B4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E95B-C382-4C4A-A262-A226EFB7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22BB-54B4-43DF-814A-B17C7CE5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057E-9583-4A09-978C-28D9B4F5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CA34-58E4-4812-AD38-B541A3B7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A3A4-C2CE-475F-91CF-0E21CB6D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923B-4A51-41FC-9E3A-23D55FAB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EC4E-FAA0-417E-8D9E-57E8DED3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C7B2-0F32-4772-B308-1E78C7E3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0478-EAC4-40F4-8AC2-A1B214E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758D-80C5-4C1E-A3A9-C83028B3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1482-D962-4F5A-900B-9F463E8EE2A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C2DC-F113-4E78-BBA3-63E5F698A7F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541440" y="26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Comic Sans MS"/>
              </a:rPr>
              <a:t>Урок коллективного творчества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«Царств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Мороза Ивановича»</a:t>
            </a:r>
            <a:r>
              <a:rPr b="0" lang="en-US" sz="4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494172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тературное чтение 2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МК « Начальная школа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ве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836640"/>
            <a:ext cx="2076480" cy="2324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5516280"/>
            <a:ext cx="274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готовила и прове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Великанова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d8f6f8"/>
                </a:solidFill>
                <a:uFillTx/>
                <a:latin typeface="Tahoma"/>
              </a:rPr>
              <a:t>Упражнения для развития речевого слуха</a:t>
            </a:r>
            <a:r>
              <a:rPr b="0" lang="en-US" sz="3800" spc="-1" strike="noStrike">
                <a:solidFill>
                  <a:srgbClr val="d8f6f8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Rounded MT Bold"/>
              </a:rPr>
              <a:t>Нежно, как-будто укачивая младен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Rounded MT Bold"/>
              </a:rPr>
              <a:t>Вспоминая, с грустью, оттого, что Снегурочка проп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Rounded MT Bold"/>
              </a:rPr>
              <a:t>С лаской, наряжая Снегурочку в новые наря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Rounded MT Bold"/>
              </a:rPr>
              <a:t>С радостью, оттого, что Снегурочка верну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d8f6f8"/>
                </a:solidFill>
                <a:uFillTx/>
                <a:latin typeface="Tahoma"/>
              </a:rPr>
              <a:t>Оформление книжек-раскладушек. Коллективная творческая работа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d8f6f8"/>
                </a:solidFill>
                <a:uFillTx/>
                <a:latin typeface="Tahoma"/>
              </a:rPr>
              <a:t>Рефлексия урока.</a:t>
            </a:r>
            <a:br>
              <a:rPr sz="3800"/>
            </a:b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1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Вывод по содержанию произвед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Для чего автор сказки « Мороз Иванович» В.Ф.Одоевский написал такое обращение к детям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Объясните смысл этих слов автор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Подведение итогов работы внутри груп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Пожмите друг другу руки, кому было приятно работать вместе, руки в центр «звёздочкой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Подведение итогов работы по группам, в целом по класс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Я хочу похлопать, поаплодировать группе №1, зато, что они активно и хорошо работали на урок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Кто меня поддержит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А вы, группа №1, кому хотите поаплодироват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Кто их поддержит? (и так далее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4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Барометр настроения – определение эмоционального состояния в класс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22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Tahoma"/>
              </a:rPr>
              <a:t>Барометр настроения.</a:t>
            </a:r>
            <a:endParaRPr b="0" lang="en-US" sz="29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3141720"/>
            <a:ext cx="1944720" cy="1944720"/>
          </a:xfrm>
          <a:prstGeom prst="smileyFace">
            <a:avLst>
              <a:gd name="adj" fmla="val 9282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1557360"/>
            <a:ext cx="1944720" cy="1944720"/>
          </a:xfrm>
          <a:prstGeom prst="smileyFace">
            <a:avLst>
              <a:gd name="adj" fmla="val 685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3284640"/>
            <a:ext cx="1944720" cy="1944720"/>
          </a:xfrm>
          <a:prstGeom prst="smileyFace">
            <a:avLst>
              <a:gd name="adj" fmla="val -4652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64328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d8f6f8"/>
                </a:solidFill>
                <a:uFillTx/>
                <a:latin typeface="Tahoma"/>
              </a:rPr>
              <a:t>Релаксация</a:t>
            </a:r>
            <a:br>
              <a:rPr sz="3800"/>
            </a:b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Все умеют танцева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Бегать, прыгать рисов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о не все пока уме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асслабляться, отдых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Есть у нас игра так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чень легкая, про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Замедляются движ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Исчезает напряж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И становится понятно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асслабление прият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Спасибо за работу на урок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d8f6f8"/>
                </a:solidFill>
                <a:latin typeface="Tahoma"/>
              </a:rPr>
              <a:t>Тема: «Царство Мороза Ивановича»</a:t>
            </a:r>
            <a:br>
              <a:rPr sz="2800"/>
            </a:br>
            <a:r>
              <a:rPr b="0" lang="en-US" sz="2800" spc="-1" strike="noStrike">
                <a:solidFill>
                  <a:srgbClr val="d8f6f8"/>
                </a:solidFill>
                <a:latin typeface="Tahoma"/>
              </a:rPr>
              <a:t>(Повторение сказок о Снегурочке, Морозе Ивановиче)</a:t>
            </a:r>
            <a:br>
              <a:rPr sz="2800"/>
            </a:br>
            <a:endParaRPr b="0" lang="en-US" sz="2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Цел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Предметные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детей анализировать и сравнивать между собой произведения одного жанра (авторские и народные сказки), поступки и характеры героев сказок; учить классифицировать сказ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сширять читательский кругозор детей;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Деятельно-коммуникативные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вивать навыки коллективного труда, общения, совместного творчества, учить доказывать свою точку зрения, вести диалог, бесе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Ценностно-ориентированные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спитывать нравственно-эстетические основы гражданственности, распознавать добро и зло, правду и ложь на примере отношений героев сказо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d8f6f8"/>
                </a:solidFill>
                <a:uFillTx/>
                <a:latin typeface="Tahoma"/>
              </a:rPr>
              <a:t>Психологическая поддержка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– умны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- дружны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– внимательны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– старательны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– отлично учимс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ё у нас получитс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d8f6f8"/>
                </a:solidFill>
                <a:uFillTx/>
                <a:latin typeface="Tahoma"/>
              </a:rPr>
              <a:t>Коллективная формулировка темы и целей урока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 __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Иванович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________ Да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_(Девочка Снегурочка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______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Фёдорович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_Одо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__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Мороз Иванович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_________________________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 Фёдорович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Одоевский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 гостях у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Дедушки Моро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_)________________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__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усская    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родная сказка)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негурочк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8f6f8"/>
                </a:solidFill>
                <a:latin typeface="Arial Rounded MT Bold"/>
              </a:rPr>
              <a:t>Урок коллективного творчества </a:t>
            </a:r>
            <a:br>
              <a:rPr sz="3800"/>
            </a:b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«Царств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Мороза Ивановича»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140" name="_s40111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3" name="_s40110"/>
            <p:cNvCxnSpPr>
              <a:stCxn id="144" idx="0"/>
              <a:endCxn id="142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40109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2" name="_s40105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сказк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авторские и народ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0106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ahoma"/>
                </a:rPr>
                <a:t>о животны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40107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бытовые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40108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волшебные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d8f6f8"/>
                </a:solidFill>
                <a:uFillTx/>
                <a:latin typeface="Tahoma"/>
              </a:rPr>
              <a:t>Работа в группах. Повторение о литературных жанрах.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474720" y="4551120"/>
            <a:ext cx="1257120" cy="571320"/>
            <a:chOff x="3474720" y="4551120"/>
            <a:chExt cx="1257120" cy="571320"/>
          </a:xfrm>
        </p:grpSpPr>
        <p:sp>
          <p:nvSpPr>
            <p:cNvPr id="150" name=""/>
            <p:cNvSpPr/>
            <p:nvPr/>
          </p:nvSpPr>
          <p:spPr>
            <a:xfrm>
              <a:off x="3474720" y="4551120"/>
              <a:ext cx="1257120" cy="5713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673440" y="3687480"/>
            <a:ext cx="799920" cy="457200"/>
            <a:chOff x="3673440" y="3687480"/>
            <a:chExt cx="799920" cy="457200"/>
          </a:xfrm>
        </p:grpSpPr>
        <p:sp>
          <p:nvSpPr>
            <p:cNvPr id="152" name=""/>
            <p:cNvSpPr/>
            <p:nvPr/>
          </p:nvSpPr>
          <p:spPr>
            <a:xfrm rot="10800000">
              <a:off x="3673440" y="3687480"/>
              <a:ext cx="799920" cy="45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24280" y="2747880"/>
            <a:ext cx="689040" cy="68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27520" y="1882800"/>
            <a:ext cx="799920" cy="57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24280" y="2359080"/>
            <a:ext cx="685800" cy="685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27520" y="1906560"/>
            <a:ext cx="799920" cy="690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360" y="2004840"/>
            <a:ext cx="1714680" cy="1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3040" y="13320"/>
            <a:ext cx="85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Таблица «заместителей» жанров и 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68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868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868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8120" y="586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868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868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8120" y="586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547560"/>
          <a:ext cx="9144000" cy="6150240"/>
        </p:xfrm>
        <a:graphic>
          <a:graphicData uri="http://schemas.openxmlformats.org/drawingml/2006/table">
            <a:tbl>
              <a:tblPr/>
              <a:tblGrid>
                <a:gridCol w="3149640"/>
                <a:gridCol w="1957320"/>
                <a:gridCol w="2411280"/>
                <a:gridCol w="1625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ан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заместител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гур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замести-тель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ска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ихотворен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сня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ина,легенд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д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о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 Роди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 детя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 приро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 живот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 волшебстве и приключения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ЁЛ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ЛЁ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ИЧНЕ-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87320" y="897840"/>
            <a:ext cx="57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ставь себя в рол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773360"/>
          <a:ext cx="9144000" cy="46432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6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д Мороз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негурочк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нивиц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кодельниц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d8f6f8"/>
                </a:solidFill>
                <a:uFillTx/>
                <a:latin typeface="Tahoma"/>
              </a:rPr>
              <a:t>Физкультминутка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и, наша Снегурочк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обная кокур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вешнего снегу скатан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шним солнышком пригрета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тебя станем пои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тебя станем корми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цветно платьице ряди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у-разуму учить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20:31:55Z</dcterms:created>
  <dc:creator>Velikanova</dc:creator>
  <dc:description/>
  <dc:language>en-US</dc:language>
  <cp:lastModifiedBy>Лицей</cp:lastModifiedBy>
  <dcterms:modified xsi:type="dcterms:W3CDTF">2008-12-08T07:40:49Z</dcterms:modified>
  <cp:revision>5</cp:revision>
  <dc:subject/>
  <dc:title>Урок коллективного творчества</dc:title>
</cp:coreProperties>
</file>