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DBB-2A95-44C7-93F2-6C545E88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346-A3D2-41C1-9E64-F98DEC65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8EE-BB31-4569-9EB1-4DFA490E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943-9A30-4B09-AFF5-8EA25791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751A-6E28-412D-B023-83901B07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B8CA-617E-42ED-8E02-B9A4FF94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8784-D99B-4E08-8AD8-0CBEF183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4C41-A50C-4352-AA2E-833ACE54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1B7D-5E94-4523-A7E6-C5F7492D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5D3E-9BB5-474C-961B-DD56974F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08BA-75BD-47B5-B436-8BF50134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761-F158-4D0F-BDD8-72028769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E59C-9881-4436-9B5D-E81CAC4C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64E3-5D8D-43D9-9100-475CC6BE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7FCD-7277-45F1-B63C-8915B250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A651-F1C0-4ACE-90E5-901E2A24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AF0F-7A59-46C0-8C0C-42A9C55E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1C3-DB08-434B-A6A0-E82990A7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E87-B973-4536-91A5-17901306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80D-1BCD-4AE5-82D7-87AE5C57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1E8-D22C-4278-AB4C-66AB8FC4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F3A-04EC-4471-9A36-71DA089C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767-F2A1-452B-9D87-E9064771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F339-13FA-42C6-9A03-DEF31D11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267C-F9B8-4C4B-B7E2-9DDC74BDE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2DC8-0EB1-4FBF-8E41-940893E3E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wmf"/><Relationship Id="rId3" Type="http://schemas.openxmlformats.org/officeDocument/2006/relationships/image" Target="../media/image9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314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d9d9ff"/>
                </a:solidFill>
                <a:latin typeface="Arial"/>
              </a:rPr>
              <a:t>Урок  по предмету «Окружающий мир» </a:t>
            </a:r>
            <a:br>
              <a:rPr sz="4800"/>
            </a:br>
            <a:r>
              <a:rPr b="1" lang="ru-RU" sz="4800" spc="-1" strike="noStrike">
                <a:solidFill>
                  <a:srgbClr val="d9d9ff"/>
                </a:solidFill>
                <a:latin typeface="Arial"/>
              </a:rPr>
              <a:t>в 3 классе</a:t>
            </a:r>
            <a:br>
              <a:rPr sz="4800"/>
            </a:br>
            <a:r>
              <a:rPr b="1" i="1" lang="ru-RU" sz="4800" spc="-1" strike="noStrike">
                <a:solidFill>
                  <a:srgbClr val="d9d9ff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d9d9ff"/>
                </a:solidFill>
                <a:latin typeface="Arial"/>
              </a:rPr>
              <a:t>УМК «Начальная школа </a:t>
            </a:r>
            <a:r>
              <a:rPr b="1" i="1" lang="en-US" sz="3200" spc="-1" strike="noStrike">
                <a:solidFill>
                  <a:srgbClr val="d9d9ff"/>
                </a:solidFill>
                <a:latin typeface="Arial"/>
              </a:rPr>
              <a:t>XXI</a:t>
            </a:r>
            <a:r>
              <a:rPr b="1" i="1" lang="ru-RU" sz="3200" spc="-1" strike="noStrike">
                <a:solidFill>
                  <a:srgbClr val="d9d9ff"/>
                </a:solidFill>
                <a:latin typeface="Arial"/>
              </a:rPr>
              <a:t> века» Автор Н.Ф. Виноградова) </a:t>
            </a:r>
            <a:br>
              <a:rPr sz="3200"/>
            </a:b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rot="11247600">
            <a:off x="539640" y="3789000"/>
            <a:ext cx="2479680" cy="271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пасибо за работу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d9d9ff"/>
              </a:solidFill>
              <a:uFillTx/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ема: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Жизнь животных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Цепи  пита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525760" cy="137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 rot="18355200">
            <a:off x="641160" y="5054040"/>
            <a:ext cx="1173240" cy="1233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067120" cy="2308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Цели: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Изучить группы животных по типу питания, познакомить учащихся с цепями питания, существующими в природе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развивать у учеников умения и навыки самостоятельной и групповой работы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3.формировать у детей умение составлять, «читать» схемы, моделировать экологические связи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4. способствовать обогащению и развитию субъективных представлений учащихся о жизни животных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5. приучать детей к коллективным формам работы, формировать коммуникативные ум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1873440" cy="1420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 rot="17243400">
            <a:off x="3780720" y="475200"/>
            <a:ext cx="1042920" cy="115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1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2135160"/>
          <a:ext cx="9142560" cy="3801960"/>
        </p:xfrm>
        <a:graphic>
          <a:graphicData uri="http://schemas.openxmlformats.org/drawingml/2006/table">
            <a:tbl>
              <a:tblPr/>
              <a:tblGrid>
                <a:gridCol w="701640"/>
                <a:gridCol w="708120"/>
                <a:gridCol w="706320"/>
                <a:gridCol w="701640"/>
                <a:gridCol w="701640"/>
                <a:gridCol w="701640"/>
                <a:gridCol w="702000"/>
                <a:gridCol w="701640"/>
                <a:gridCol w="701640"/>
                <a:gridCol w="701640"/>
                <a:gridCol w="704880"/>
                <a:gridCol w="704880"/>
                <a:gridCol w="704880"/>
              </a:tblGrid>
              <a:tr h="764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356000" y="4653000"/>
            <a:ext cx="1944720" cy="1611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520720" cy="2016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732720" y="3141720"/>
            <a:ext cx="1616040" cy="2425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732720" y="189000"/>
            <a:ext cx="2050920" cy="172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Зелёный поясок живой в траве затерял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Что за зверь лес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тал, как столбик, под сос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стоит среди травы –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ши больше головы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Окраской – сероватая, повадкой – вороват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икунья хрипловатая – известная перс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то эт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Гудит мохнатеньк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тит за сладеньки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1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2135160"/>
          <a:ext cx="9142560" cy="3801960"/>
        </p:xfrm>
        <a:graphic>
          <a:graphicData uri="http://schemas.openxmlformats.org/drawingml/2006/table">
            <a:tbl>
              <a:tblPr/>
              <a:tblGrid>
                <a:gridCol w="701640"/>
                <a:gridCol w="708120"/>
                <a:gridCol w="706320"/>
                <a:gridCol w="701640"/>
                <a:gridCol w="701640"/>
                <a:gridCol w="701640"/>
                <a:gridCol w="702000"/>
                <a:gridCol w="701640"/>
                <a:gridCol w="701640"/>
                <a:gridCol w="701640"/>
                <a:gridCol w="704880"/>
                <a:gridCol w="704880"/>
                <a:gridCol w="704880"/>
              </a:tblGrid>
              <a:tr h="764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2520720" cy="2016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050920" cy="1727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443640" y="2997360"/>
            <a:ext cx="1616040" cy="2425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932360" y="4941720"/>
            <a:ext cx="1944720" cy="161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57200" y="1600200"/>
            <a:ext cx="8228880" cy="4525920"/>
            <a:chOff x="457200" y="1600200"/>
            <a:chExt cx="8228880" cy="4525920"/>
          </a:xfrm>
        </p:grpSpPr>
        <p:cxnSp>
          <p:nvCxnSpPr>
            <p:cNvPr id="243" name="_s313351"/>
            <p:cNvCxnSpPr>
              <a:stCxn id="244" idx="3"/>
              <a:endCxn id="245" idx="2"/>
            </p:cNvCxnSpPr>
            <p:nvPr/>
          </p:nvCxnSpPr>
          <p:spPr>
            <a:xfrm flipV="1">
              <a:off x="5394240" y="2052360"/>
              <a:ext cx="823320" cy="3847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313352"/>
            <p:cNvCxnSpPr>
              <a:stCxn id="247" idx="3"/>
              <a:endCxn id="245" idx="2"/>
            </p:cNvCxnSpPr>
            <p:nvPr/>
          </p:nvCxnSpPr>
          <p:spPr>
            <a:xfrm flipV="1">
              <a:off x="5394240" y="2052360"/>
              <a:ext cx="823320" cy="316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313353"/>
            <p:cNvCxnSpPr>
              <a:stCxn id="249" idx="3"/>
              <a:endCxn id="245" idx="2"/>
            </p:cNvCxnSpPr>
            <p:nvPr/>
          </p:nvCxnSpPr>
          <p:spPr>
            <a:xfrm flipV="1">
              <a:off x="5394240" y="2052000"/>
              <a:ext cx="823320" cy="2490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313354"/>
            <p:cNvCxnSpPr>
              <a:stCxn id="251" idx="3"/>
              <a:endCxn id="245" idx="2"/>
            </p:cNvCxnSpPr>
            <p:nvPr/>
          </p:nvCxnSpPr>
          <p:spPr>
            <a:xfrm flipV="1">
              <a:off x="5394240" y="2052000"/>
              <a:ext cx="823320" cy="1811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313355"/>
            <p:cNvCxnSpPr>
              <a:stCxn id="253" idx="3"/>
              <a:endCxn id="245" idx="2"/>
            </p:cNvCxnSpPr>
            <p:nvPr/>
          </p:nvCxnSpPr>
          <p:spPr>
            <a:xfrm flipV="1">
              <a:off x="5394240" y="2052000"/>
              <a:ext cx="823320" cy="113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313356"/>
            <p:cNvCxnSpPr>
              <a:stCxn id="255" idx="3"/>
              <a:endCxn id="245" idx="2"/>
            </p:cNvCxnSpPr>
            <p:nvPr/>
          </p:nvCxnSpPr>
          <p:spPr>
            <a:xfrm flipV="1">
              <a:off x="5394240" y="2052000"/>
              <a:ext cx="823320" cy="45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5" name="_s313357"/>
            <p:cNvSpPr/>
            <p:nvPr/>
          </p:nvSpPr>
          <p:spPr>
            <a:xfrm>
              <a:off x="3748680" y="1600200"/>
              <a:ext cx="4937400" cy="45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 u="sng">
                  <a:solidFill>
                    <a:srgbClr val="ffffff"/>
                  </a:solidFill>
                  <a:uFillTx/>
                  <a:latin typeface="Arial"/>
                </a:rPr>
                <a:t>Животны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13358"/>
            <p:cNvSpPr/>
            <p:nvPr/>
          </p:nvSpPr>
          <p:spPr>
            <a:xfrm>
              <a:off x="457200" y="2279160"/>
              <a:ext cx="4937400" cy="45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млекопитающи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13359"/>
            <p:cNvSpPr/>
            <p:nvPr/>
          </p:nvSpPr>
          <p:spPr>
            <a:xfrm>
              <a:off x="457200" y="2957760"/>
              <a:ext cx="4937400" cy="45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ресмыкающиес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13360"/>
            <p:cNvSpPr/>
            <p:nvPr/>
          </p:nvSpPr>
          <p:spPr>
            <a:xfrm>
              <a:off x="457200" y="3636720"/>
              <a:ext cx="4937400" cy="45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птицы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13361"/>
            <p:cNvSpPr/>
            <p:nvPr/>
          </p:nvSpPr>
          <p:spPr>
            <a:xfrm>
              <a:off x="459000" y="4315680"/>
              <a:ext cx="4935240" cy="45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насекомы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13362"/>
            <p:cNvSpPr/>
            <p:nvPr/>
          </p:nvSpPr>
          <p:spPr>
            <a:xfrm>
              <a:off x="457200" y="4994640"/>
              <a:ext cx="4937400" cy="45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ыб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13363"/>
            <p:cNvSpPr/>
            <p:nvPr/>
          </p:nvSpPr>
          <p:spPr>
            <a:xfrm>
              <a:off x="459000" y="5673600"/>
              <a:ext cx="4935240" cy="45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земноводны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1600200"/>
            <a:ext cx="8229600" cy="4525560"/>
            <a:chOff x="457200" y="1600200"/>
            <a:chExt cx="8229600" cy="4525560"/>
          </a:xfrm>
        </p:grpSpPr>
        <p:cxnSp>
          <p:nvCxnSpPr>
            <p:cNvPr id="258" name="_s316422"/>
            <p:cNvCxnSpPr>
              <a:stCxn id="259" idx="0"/>
              <a:endCxn id="260" idx="2"/>
            </p:cNvCxnSpPr>
            <p:nvPr/>
          </p:nvCxnSpPr>
          <p:spPr>
            <a:xfrm flipV="1" rot="16200000">
              <a:off x="5559120" y="2422080"/>
              <a:ext cx="905760" cy="2880720"/>
            </a:xfrm>
            <a:prstGeom prst="bentConnector3">
              <a:avLst>
                <a:gd name="adj1" fmla="val 20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1" name="_s316423"/>
            <p:cNvCxnSpPr>
              <a:stCxn id="262" idx="0"/>
              <a:endCxn id="260" idx="2"/>
            </p:cNvCxnSpPr>
            <p:nvPr/>
          </p:nvCxnSpPr>
          <p:spPr>
            <a:xfrm flipV="1">
              <a:off x="4572000" y="3409920"/>
              <a:ext cx="1440" cy="90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3" name="_s316424"/>
            <p:cNvCxnSpPr>
              <a:stCxn id="264" idx="0"/>
              <a:endCxn id="260" idx="2"/>
            </p:cNvCxnSpPr>
            <p:nvPr/>
          </p:nvCxnSpPr>
          <p:spPr>
            <a:xfrm flipH="1" flipV="1" rot="5400000">
              <a:off x="2678040" y="2422440"/>
              <a:ext cx="905760" cy="2880720"/>
            </a:xfrm>
            <a:prstGeom prst="bentConnector3">
              <a:avLst>
                <a:gd name="adj1" fmla="val 20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0" name="_s316425"/>
            <p:cNvSpPr/>
            <p:nvPr/>
          </p:nvSpPr>
          <p:spPr>
            <a:xfrm>
              <a:off x="3337200" y="1600200"/>
              <a:ext cx="2468880" cy="181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 u="sng">
                  <a:solidFill>
                    <a:srgbClr val="0099cc"/>
                  </a:solidFill>
                  <a:uFillTx/>
                  <a:latin typeface="Arial"/>
                  <a:hlinkClick r:id="rId1" action="ppaction://hlinksldjump"/>
                </a:rPr>
                <a:t>План</a:t>
              </a:r>
              <a:r>
                <a:rPr b="0" lang="en-US" sz="42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 u="sng">
                  <a:solidFill>
                    <a:srgbClr val="0099cc"/>
                  </a:solidFill>
                  <a:uFillTx/>
                  <a:latin typeface="Arial"/>
                  <a:hlinkClick r:id="rId2" action="ppaction://hlinksldjump"/>
                </a:rPr>
                <a:t>урока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316426"/>
            <p:cNvSpPr/>
            <p:nvPr/>
          </p:nvSpPr>
          <p:spPr>
            <a:xfrm>
              <a:off x="457200" y="4315680"/>
              <a:ext cx="2468880" cy="181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 u="sng">
                  <a:solidFill>
                    <a:srgbClr val="0099cc"/>
                  </a:solidFill>
                  <a:uFillTx/>
                  <a:latin typeface="Arial"/>
                  <a:hlinkClick r:id="rId3" action="ppaction://hlinksldjump"/>
                </a:rPr>
                <a:t>Типы</a:t>
              </a:r>
              <a:r>
                <a:rPr b="0" lang="en-US" sz="42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ffffff"/>
                  </a:solidFill>
                  <a:latin typeface="Arial"/>
                </a:rPr>
                <a:t>питания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316427"/>
            <p:cNvSpPr/>
            <p:nvPr/>
          </p:nvSpPr>
          <p:spPr>
            <a:xfrm>
              <a:off x="3337200" y="4315680"/>
              <a:ext cx="2468880" cy="181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 u="sng">
                  <a:solidFill>
                    <a:srgbClr val="0099cc"/>
                  </a:solidFill>
                  <a:uFillTx/>
                  <a:latin typeface="Arial"/>
                  <a:hlinkClick r:id="rId4" action="ppaction://hlinksldjump"/>
                </a:rPr>
                <a:t>Цепи</a:t>
              </a:r>
              <a:r>
                <a:rPr b="0" lang="en-US" sz="42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ffffff"/>
                  </a:solidFill>
                  <a:latin typeface="Arial"/>
                </a:rPr>
                <a:t>питания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_s316428"/>
            <p:cNvSpPr/>
            <p:nvPr/>
          </p:nvSpPr>
          <p:spPr>
            <a:xfrm>
              <a:off x="6217920" y="4315680"/>
              <a:ext cx="2468880" cy="181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 u="sng">
                  <a:solidFill>
                    <a:srgbClr val="0099cc"/>
                  </a:solidFill>
                  <a:uFillTx/>
                  <a:latin typeface="Arial"/>
                  <a:hlinkClick r:id="rId5" action="ppaction://hlinksldjump"/>
                </a:rPr>
                <a:t>Роль</a:t>
              </a:r>
              <a:r>
                <a:rPr b="0" lang="en-US" sz="35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Arial"/>
                </a:rPr>
                <a:t>хищников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Arial"/>
                </a:rPr>
                <a:t>в природе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57200" y="1600200"/>
            <a:ext cx="8228880" cy="4525920"/>
            <a:chOff x="457200" y="1600200"/>
            <a:chExt cx="8228880" cy="4525920"/>
          </a:xfrm>
        </p:grpSpPr>
        <p:cxnSp>
          <p:nvCxnSpPr>
            <p:cNvPr id="267" name="_s320518"/>
            <p:cNvCxnSpPr>
              <a:stCxn id="268" idx="1"/>
              <a:endCxn id="269" idx="2"/>
            </p:cNvCxnSpPr>
            <p:nvPr/>
          </p:nvCxnSpPr>
          <p:spPr>
            <a:xfrm rot="10800000">
              <a:off x="2925000" y="2489040"/>
              <a:ext cx="823680" cy="3333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320519"/>
            <p:cNvCxnSpPr>
              <a:stCxn id="271" idx="1"/>
              <a:endCxn id="269" idx="2"/>
            </p:cNvCxnSpPr>
            <p:nvPr/>
          </p:nvCxnSpPr>
          <p:spPr>
            <a:xfrm rot="10800000">
              <a:off x="2925000" y="2489040"/>
              <a:ext cx="823680" cy="2424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2" name="_s320520"/>
            <p:cNvCxnSpPr>
              <a:stCxn id="273" idx="1"/>
              <a:endCxn id="269" idx="2"/>
            </p:cNvCxnSpPr>
            <p:nvPr/>
          </p:nvCxnSpPr>
          <p:spPr>
            <a:xfrm rot="10800000">
              <a:off x="2925000" y="2489040"/>
              <a:ext cx="823680" cy="1515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4" name="_s320521"/>
            <p:cNvCxnSpPr>
              <a:stCxn id="275" idx="1"/>
              <a:endCxn id="269" idx="2"/>
            </p:cNvCxnSpPr>
            <p:nvPr/>
          </p:nvCxnSpPr>
          <p:spPr>
            <a:xfrm rot="10800000">
              <a:off x="2925000" y="2489040"/>
              <a:ext cx="823680" cy="60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9" name="_s320522"/>
            <p:cNvSpPr/>
            <p:nvPr/>
          </p:nvSpPr>
          <p:spPr>
            <a:xfrm>
              <a:off x="457200" y="1600200"/>
              <a:ext cx="4937400" cy="889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 u="sng">
                  <a:solidFill>
                    <a:srgbClr val="0099cc"/>
                  </a:solidFill>
                  <a:uFillTx/>
                  <a:latin typeface="Arial"/>
                  <a:hlinkClick r:id="rId1" action="ppaction://hlinksldjump"/>
                </a:rPr>
                <a:t>Животные</a:t>
              </a:r>
              <a:r>
                <a:rPr b="0" lang="en-US" sz="2700" spc="-1" strike="noStrike" u="sng">
                  <a:solidFill>
                    <a:srgbClr val="ffffff"/>
                  </a:solidFill>
                  <a:uFillTx/>
                  <a:latin typeface="Arial"/>
                </a:rPr>
                <a:t> по типу питания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_s320523"/>
            <p:cNvSpPr/>
            <p:nvPr/>
          </p:nvSpPr>
          <p:spPr>
            <a:xfrm>
              <a:off x="3748680" y="2792880"/>
              <a:ext cx="4937400" cy="605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Растительноядны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_s320524"/>
            <p:cNvSpPr/>
            <p:nvPr/>
          </p:nvSpPr>
          <p:spPr>
            <a:xfrm>
              <a:off x="3748680" y="3701880"/>
              <a:ext cx="4937400" cy="605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Хищник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320525"/>
            <p:cNvSpPr/>
            <p:nvPr/>
          </p:nvSpPr>
          <p:spPr>
            <a:xfrm>
              <a:off x="3748680" y="4610880"/>
              <a:ext cx="4937400" cy="605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Насекомоядны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320526"/>
            <p:cNvSpPr/>
            <p:nvPr/>
          </p:nvSpPr>
          <p:spPr>
            <a:xfrm>
              <a:off x="3748680" y="5520240"/>
              <a:ext cx="4937400" cy="605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Всеядны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0:23:52Z</dcterms:created>
  <dc:creator>Velikanova</dc:creator>
  <dc:description/>
  <dc:language>en-US</dc:language>
  <cp:lastModifiedBy>Velikanova</cp:lastModifiedBy>
  <dcterms:modified xsi:type="dcterms:W3CDTF">2007-12-16T21:55:44Z</dcterms:modified>
  <cp:revision>5</cp:revision>
  <dc:subject/>
  <dc:title>Урок  по предмету «Окружающий мир»  в 3 классе (Автор Н.Ф. Виноградова УМК «Начальная школа XXI века»)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