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803-D310-4BBB-A839-C1CBE2AC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4F7-E5DB-4B5E-864B-31A28D7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233-9721-4CC0-876E-38684A62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5BA-954A-43CA-95D9-B225272B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47C-9E70-4F05-B8CD-B595FC0F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E64-BB03-4478-9B6F-71CC141E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F0B-C1C7-4DEA-AE14-9951B63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D0A-0162-4DBA-AB6B-3AFBD985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A66-93E9-4481-B075-A2C663BD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348-A775-4D00-96DF-5483E96B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7A7-B4A3-450B-8774-F6AB871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154-1518-4D2A-854A-874031D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8837-B7F2-4257-B84A-648E4C8F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Мира не узнаешь,не зная края своего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колого-краеведческий буквар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52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с природа тайн своих не прячет,но учит быть внимательнее к н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Рылен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и и задачи мероприят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Провести смотр знаний школьников по экологии родного кр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Прививать устойчивый интерес к изучению исторического и культурного наследия прошл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Расширить кругозор подрост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Развивать познавательную актив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Формировать умение работать в коллективе,а также умение принимать самостоятельные реш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Развивать у учащихся память и внима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Ж)Какой из перечисленных живых организмов наиболее чувствителен к радиации, то есть она его погубит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мея; Рыба; Крыса; Человек; Паук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Ж)Выпишите названия животных, оканчивающихся на Ь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ысь;Лань;Л…;М…;Олень;С…;Л…;М…;Т…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Ж)Ученые убеждены, что деревья «говорят», понимают,чувствуют. В газете «Труд» в статье «Герань сохнет по любимой хозяйке» рассказывается о разных растениях: например,о кактусе без колючек.В жизни растений есть период, когда человек может услышать голос дерева. Что это за перио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)К каким заболеваниям приводит употребление жесткой, т.е. содержащий избыток кальция , воды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Сердечным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Ухудшение зрения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Отложение солей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)Какими ионами богаты плодородные земли 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лия; Водорода; Железа;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)Об избытке каких ионов в питьевой воде говорит ржавая вода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льций; Железа; Магния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)В результате сброса не очищенных канализационных вод в водоемах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Улучшается рост водных растений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Больше становиться рыбы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Могут возникнуть инфекционные заболевания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нкурс «Угадай по описанию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3280" y="17604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52600" y="4417920"/>
            <a:ext cx="173664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04840" y="2228760"/>
            <a:ext cx="1655640" cy="1368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378160" y="176040"/>
            <a:ext cx="1736640" cy="127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559400" y="169920"/>
            <a:ext cx="1736640" cy="130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207200" y="177840"/>
            <a:ext cx="1736640" cy="141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202520" y="2367000"/>
            <a:ext cx="1768320" cy="140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179280" y="4556160"/>
            <a:ext cx="1656000" cy="154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76760" y="4405320"/>
            <a:ext cx="1646280" cy="167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7211880" y="4510080"/>
            <a:ext cx="1719360" cy="1635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6680" y="612792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ук таранту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6165720"/>
            <a:ext cx="1727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нте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7400" y="613404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рж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40680" y="619920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юле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3280" y="1668600"/>
            <a:ext cx="16560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йо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6000" y="386064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сл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0160" y="369576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ндский кондо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06600" y="149544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соро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89640" y="1484280"/>
            <a:ext cx="16556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корпио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19800" y="1633680"/>
            <a:ext cx="165600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ука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)Где вода быстрее сковывается льдом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 берега; В середине рек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)Мелиорация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дача этой науке – окультуривать землю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болота осушать, пустыни обводнять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сушение болота – вред или польз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онкурс эрудитов. Вопросы по алфавит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Назовите главные источники загрязнения атмосферного воздух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Процесс дыхания людей и живот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Канализационные сто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Кислотные сто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Автомобильный транспор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)Нитраты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 какой части красной свеклы содержится больше нитратов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 сердцевине; У основания; В хвостике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)На какие внутренние органы человека особенно сильное влияние оказывает избыток нитратов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дце  Желудок  Печень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)Наиболее губительное действие на организм человека при одной и той же концентрации оказывают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итраты   Нитрит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Н)Какие растения являются накопителями нитратов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Злаковые; Бобовые; Листовы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.Озон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ую роль играет озон в жизни человека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Спасает от больших доз радиации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Уменьшает содержание кислорода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Помогает не сгореть на пляже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560" y="2636640"/>
            <a:ext cx="755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)Почва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Чем может быть устранена повышенная кислотность почвы?                 1.Внесением навоза.                  2.Внесением минеральных удобрении.                                  3.Внесением извести.                4.Посевом многолетних трав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.Пестициды – это ядохимикаты, с помощью которых человек пытается защитить урожай. Когда человек борется с кустарниками и деревьями, он применяет арбоциды, с бактериями – бактерициды, с клещами – акарициды, с тлёй – афициды, с грызунами – зооциды.                                     А как называется ядохимикат для борьбы с сорнякам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нкурс: «Рыбный алфавит». За 3 минуты написать по одному названию рыб на каждую букву алфави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) Наибольшую долю радиоактивного фона (до 70%) составляют:   1.Приборы медицинских учреждений;                   2.Природные  источники; 3.Различные домашние электроприборы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)Основной источник свинца,поступающий в организм человека, приходится на работу:     Промышленных предприятий;      Авто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езн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Одна болезнь из перечисленных-результат экологического неблагополучия.Определите е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СПИ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Аллерг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)Транспортом называется все, что движется и несет на себе человека. Т.е. и верблюд , и такси – все это транспорт. Но вот экологически чистый вид транспорта – это то , что не загрязняет природу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)На каком расстояние от автомагистралей должны выращиваться овощи, что бы в них не накапливался свинец.                            Более 10м; 10м; 5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)Среди перечисленных назовите 3 тяжелых металла:                        Свинец;  Ртуть;  Алюминий; Кадмий;  Железо; Кальци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)Какие органы растений являются главными аккумуляторами тяжелых металлов?                     Листья; Корни; Стебель; Семе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)Сколько углекислого газа по норме должно содержаться в атмосферном воздухе?  0,03 % ; 3%; 20%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)Фотосинтез обеспечивает нас кислородом.Назовите главные «легкие» нашей планеты.                       Океаны; Тайга; Кондиционеры; Лесопарковая зон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нкурс: «Цветочный алфавит». За 3 минуты написать по одному названию цветка на каждую букву  алфави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)Чистота воздуха.Какие из перечисленных растений являются индикаторами чистоты воздуха?             Лютики; Мхи; Ромашки; Чистоте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)Самая чистая река Мордовии.                          Мокша; Сура;  Ну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)Что приводит к появлению «парникового эффекта»?                      1.Увеличение содержания пыли;                                 2.Увеличение кислорода; 3.Увеличение содержания углекислого газ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Воздух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е меры надо принимать для охраны атмосферного воздуха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Меньше дыша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2.Использовать улавливатели и преобразователи воздух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3.Не пользоваться автотранспорт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4.Строить более высокие трубы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Я)Наиболее ядовитое растение нашего края:     Волчья ягода; Вороний глаз; Белена.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Гриб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опасные для людей соединения могут накапливать грибы, произрастающие возле автомагистрале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инец.,    Алюминий.,     Ртуть.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онкурс «Поэтический кросс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команда за 3 минуты сочиняет четверостишие. Начало фразы : «Я ходила по грибы…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.День Памяти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92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гда отмечается день памяти погибших  в радиационных авариях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Апреля.,  26Апреля.,  22Марта.,  5Июн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)Разные деревья цветут в разное время. Назовите дерево, которое зацветает самым первым, и дерево которое цветёт последним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Черёмуха.,  Верба.,  Липа.,  Берёза.,  Дуб.,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)Как действует загрязнение воздуха на деревья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Улучшается рост деревьев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Уменьшается газообмен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Увеличивается газообмен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9:29:31Z</dcterms:created>
  <dc:creator>School</dc:creator>
  <dc:description/>
  <dc:language>en-US</dc:language>
  <cp:lastModifiedBy>Учитель</cp:lastModifiedBy>
  <dcterms:modified xsi:type="dcterms:W3CDTF">2005-02-12T07:21:15Z</dcterms:modified>
  <cp:revision>7</cp:revision>
  <dc:subject/>
  <dc:title>«Мира не узнаешь,не зная края своего» Эколого-краеведческий букварь.</dc:title>
</cp:coreProperties>
</file>